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A3B-A504-4180-A365-1671A063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6A85-9B52-4D82-BDEC-BBF600E41D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A1D-9616-44CD-8165-8B8C80C8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055-A29B-4144-835F-26B47A08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6FD-D6F2-41AD-870E-107C8F4F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B3F-6636-405D-A9AD-8A1EAED8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99C-6412-4C6D-A445-BF9A1F43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E5E-C11F-4569-BA6E-B4984995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228-B1A7-462A-AF7B-FD8E7332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314-E0A0-41F8-A658-256348E8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FD7-CFF3-4300-99B9-A8FAF55B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4F8-978F-4643-9DD0-4E0219B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E73-CA6A-4434-958F-56C2F89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A4E-A281-4A65-9FD9-EE6B3A1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F084-02C5-4EF5-8C34-46C97C2A91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2198-E3AC-41BF-A664-20F29AB9D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4 Go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POSSE_logo_primary_RGB.png"/>
          <p:cNvPicPr/>
          <p:nvPr/>
        </p:nvPicPr>
        <p:blipFill>
          <a:blip r:embed="rId1"/>
          <a:stretch/>
        </p:blipFill>
        <p:spPr>
          <a:xfrm>
            <a:off x="5029200" y="5486400"/>
            <a:ext cx="40006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ion for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discuss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ing remark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136-F478-44D0-8ED6-E2C0B4287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Greg Hislop</cp:lastModifiedBy>
  <dcterms:modified xsi:type="dcterms:W3CDTF">2015-09-07T18:42:13Z</dcterms:modified>
  <cp:revision>909</cp:revision>
  <dc:subject/>
  <dc:title>Slide 1</dc:title>
</cp:coreProperties>
</file>