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89C3-4267-4C08-A63B-DC34F2AE7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F22D-5AA6-46A4-8431-EA4F565EAF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E853-2765-4528-AFEC-4B29B31EB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9B76-D078-4A39-AA97-70817399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F9BB-5D16-438E-B3F0-34FC5EAD2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3938-544C-4785-B6FE-A2CF0CA0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69C1-AD15-4EDA-B7EA-F5EF0621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8566-C966-4B46-9D07-DBCA4BB3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57CD-2501-4E6A-83A6-8B83F586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82B3-D342-4B94-AF74-35D3D3E4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3DBD-11B6-491F-AF40-BBA60154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98C1-4F62-4D66-955A-05E5B272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ED17-697D-46BD-AD5A-572FBC82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FE8D-99A2-480B-95BA-312E639C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AD93-281F-4DD1-8A64-C80105C9EA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3B64-9850-4961-A30B-4B700B825B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.3 Stage 3 – First Ste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POSSE_logo_primary_RGB.png"/>
          <p:cNvPicPr/>
          <p:nvPr/>
        </p:nvPicPr>
        <p:blipFill>
          <a:blip r:embed="rId1"/>
          <a:stretch/>
        </p:blipFill>
        <p:spPr>
          <a:xfrm>
            <a:off x="5029200" y="5486400"/>
            <a:ext cx="400068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o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 work with other POSSE members interested in the same HFOSS project on the development of a plan for the upcoming yea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9C41-6D15-4F95-BBD8-E8F45CF5F9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erci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ithin your group discuss the following and post responses on your group’s foss2serve wiki page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ach member of the group, include contact information and one or two goals for the f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eting time and schedu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ic tasks for the group (ie. downloading, installing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meline for the list of tas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33E8-AF1B-4D38-BD11-3BD771C57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15:20:32Z</dcterms:created>
  <dc:creator>user</dc:creator>
  <dc:description/>
  <dc:language>en-US</dc:language>
  <cp:lastModifiedBy>Greg Hislop</cp:lastModifiedBy>
  <dcterms:modified xsi:type="dcterms:W3CDTF">2015-09-07T19:06:09Z</dcterms:modified>
  <cp:revision>913</cp:revision>
  <dc:subject/>
  <dc:title>Slide 1</dc:title>
</cp:coreProperties>
</file>