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DAA3-4976-43D4-BFAE-BCBD746A9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CD9B-CA8B-4FC6-8FBB-67EA3D28FF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753-EC78-4F7F-886A-0B11B850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7806-3346-4E67-8643-946B2567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052-DF39-4E8F-9366-D41B2255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904-F26A-4E93-8C15-11D795FD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5C5-C49B-45BB-B243-605D4324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C6DA-F1F8-47D8-B257-6B608298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BF3D-32D5-4724-9B37-C84FB9E3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738-7145-4B37-AA56-F84A49D6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D043-7436-4CC4-B63A-BC53096D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6549-9B44-4DB8-B321-74965AB7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07E8-7873-4E41-A4BD-77D03E83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0E3-33E5-44D8-AC9C-90F08731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1BDA-2A54-4F18-8360-C6F2F8FA6A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7480-5A17-4D92-80C3-F064DB177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6 Planning for POSSE Stage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7" descr="http://teachingopensource.org/images/thumb/d/d1/Posse-logo.png/350px-Posse-logo.png"/>
          <p:cNvPicPr/>
          <p:nvPr/>
        </p:nvPicPr>
        <p:blipFill>
          <a:blip r:embed="rId1"/>
          <a:stretch/>
        </p:blipFill>
        <p:spPr>
          <a:xfrm>
            <a:off x="5562720" y="5410080"/>
            <a:ext cx="3333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mall Group Discussion – continue discussion from section 2.5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age 3 tools – a closer lo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A07B-19D0-4AC0-967E-BF20502D5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mall Group Discussion – continue discussion from section 2.5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modifications can be made to the stage 3 process to improve instructor support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will the group communicat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can we create joint activities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4FD8-C89E-4F3E-BB9B-4251750F7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age 3 Too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closer look at the tool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v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tH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525D-D65C-4E8C-AE97-0EB36A3A8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5:20:32Z</dcterms:created>
  <dc:creator>user</dc:creator>
  <dc:description/>
  <dc:language>en-US</dc:language>
  <cp:lastModifiedBy>Darci Burdge</cp:lastModifiedBy>
  <dcterms:modified xsi:type="dcterms:W3CDTF">2014-05-27T14:44:16Z</dcterms:modified>
  <cp:revision>907</cp:revision>
  <dc:subject/>
  <dc:title>Slide 1</dc:title>
</cp:coreProperties>
</file>