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0C3-3698-4CAC-98AB-CEC16D7F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B98F-03D8-477E-A721-826E0C14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185-6406-4483-92D9-2C8D458D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871-7578-4C15-81ED-A60A516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5949-9A77-469A-A9A4-9D0199AAA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B293-9084-49E0-B59F-AB512E8B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BA4-7377-4A83-ACD8-77486A9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DFB-9579-45EF-A9EC-44C2307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337-8818-4407-B033-4A355E8D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B7BB-8A6B-4D1D-9E50-B2FFFDCA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7AA-326D-4449-ADB8-C110B4DF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031-E37C-4310-BC4D-5FFD762D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693-84C1-494C-A125-11BB2C10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D252-568F-492C-BB20-A4AED628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E39B-B0FC-48DD-9C59-570AD088F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4C6B-9AD0-409A-944D-1A0858B90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5 Stage 3 – Firs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work with other POSSE members interested in the same HFOSS project in the development of a plan for the upcoming yea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35ED-0273-496C-A07A-299D8B652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in your group discuss the following and post responses on your group’s foss2serve wiki pag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member of the group, include contact information and one or two goals for the f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time and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fic tasks for the group (ie. downloading, installing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line for the list of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45C-A869-42F0-BD63-A7FCD60BA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Lori</cp:lastModifiedBy>
  <dcterms:modified xsi:type="dcterms:W3CDTF">2014-05-27T15:29:00Z</dcterms:modified>
  <cp:revision>910</cp:revision>
  <dc:subject/>
  <dc:title>Slide 1</dc:title>
</cp:coreProperties>
</file>