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A696-5F92-4A99-8EDA-006F8A1F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4DE-CB0B-404E-B66D-E32E23D77B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3BE0-C4F5-4CC5-AC31-441B8F6D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908-E098-4B1A-B387-B168FA90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4CE-D09C-435F-B10F-5516A3F2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F559-216A-4ABD-BFB6-8E85C55A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FF3-8A8C-4AF5-B756-C0CBDA4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922-15B1-4B0A-A3F1-2C443880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8E3-0111-4C07-A5F8-2DC98B3B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22B6-9958-4578-A137-4911738B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31D-BADC-4E29-911D-1CDED8C4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06D-B2B5-4F7E-A5C1-AC988C2D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5809-782E-4CFF-94D8-8C8CFF5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6BF-2714-4C9A-B805-2921B520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2DD-A509-4B6D-9922-BEDE3F029F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7867-B730-4C8D-975F-391D63FDF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6 Go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aluation for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discus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ing remark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DF9-5491-4CFC-8E10-7F49598CAC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</cp:lastModifiedBy>
  <dcterms:modified xsi:type="dcterms:W3CDTF">2014-05-16T13:48:49Z</dcterms:modified>
  <cp:revision>906</cp:revision>
  <dc:subject/>
  <dc:title>Slide 1</dc:title>
</cp:coreProperties>
</file>