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9BB7-EF11-4F8F-B727-CB805F7EE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38AC-C653-46AC-8A8B-3BA8304B3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05F1-D154-46E8-A489-01BEACBE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CEA-031C-454B-8F56-FC0140EF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0A7-4427-4534-9E8D-502D1004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B84-C40B-4760-8E8F-05A99358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E82-7978-4F50-9BE9-32E269D8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E26-D7AF-4F61-B801-1219E86C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B6AB-2070-4394-8B54-18AF173D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0EC-94C5-428B-9D37-3CC86438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0D1-07B4-4FE1-A153-B0D8EBE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A301-A933-4288-B5C7-D72DDDA0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F1E-A742-4836-B6B5-195B4FA2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F29-A581-4F53-A142-63F549FA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ADF1-169B-4D36-83A7-AAF47FD51E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022B-9E7D-4835-B497-72BCA5552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4 Getting Started on a Proj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teachingopensource.org/images/thumb/d/d1/Posse-logo.png/350px-Posse-logo.png"/>
          <p:cNvPicPr/>
          <p:nvPr/>
        </p:nvPicPr>
        <p:blipFill>
          <a:blip r:embed="rId1"/>
          <a:stretch/>
        </p:blipFill>
        <p:spPr>
          <a:xfrm>
            <a:off x="5562720" y="5410080"/>
            <a:ext cx="333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start to organize the Stage 3 groups and identify how you might start to work with a selected HFOS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6702-09C5-443F-8A3E-30A685E84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our choic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wnload and install an HFOS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a small contribution that you could mak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k about how you would create student 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your imagin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BA8D-7B9C-4ACC-9697-4355E0324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cord what you find and what you decide to pursue as firs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erp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FC4F-8040-49F3-BF1B-AD7957A88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Greg Hislop</cp:lastModifiedBy>
  <dcterms:modified xsi:type="dcterms:W3CDTF">2013-06-02T03:36:12Z</dcterms:modified>
  <cp:revision>907</cp:revision>
  <dc:subject/>
  <dc:title>Slide 1</dc:title>
</cp:coreProperties>
</file>