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1513-8A3A-41C6-84A5-F1BF3FCD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874E-6543-46BC-8BA4-1EC1A7A168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529-6764-41F6-B9EF-2DD978AE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71B-2BF5-4F22-85BE-31BF5637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5FD-442A-4605-8AA9-57631F8C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DAE-01F1-4510-AF50-87E0B304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6F5-C94C-47F9-A59F-55F7C2B2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F8A-CAF5-4D4D-A001-E0BC4E1F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BBB-8884-4CE7-83E5-A631053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8BEB-008D-4F34-A70B-0E6A3F1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F1C-18A4-4C1E-813E-EADDCA94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9C2-12CD-4A4B-8881-076FEB4F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22E8-6B4A-4AA3-A6D3-0364A74F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FC6F-6A5C-4FDA-B02A-A43209BE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38E-F307-4FCB-94B4-6DE3D80373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E9F5-AF59-425B-9AE5-B92F8BEE9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6 Group Hands-on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POSSE_logo_primary_RGB.png"/>
          <p:cNvPicPr/>
          <p:nvPr/>
        </p:nvPicPr>
        <p:blipFill>
          <a:blip r:embed="rId1"/>
          <a:stretch/>
        </p:blipFill>
        <p:spPr>
          <a:xfrm>
            <a:off x="5029200" y="5486400"/>
            <a:ext cx="400068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mall group 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tinuation of group effort to get started with an HFOSS project, e.g.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development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lore features of HFOSS community or proc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t up HFOSS demo produ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CF52-8661-465E-99D6-7D9F22D311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5:20:32Z</dcterms:created>
  <dc:creator>user</dc:creator>
  <dc:description/>
  <dc:language>en-US</dc:language>
  <cp:lastModifiedBy>Greg Hislop</cp:lastModifiedBy>
  <dcterms:modified xsi:type="dcterms:W3CDTF">2015-09-03T16:21:41Z</dcterms:modified>
  <cp:revision>913</cp:revision>
  <dc:subject/>
  <dc:title>Slide 1</dc:title>
</cp:coreProperties>
</file>