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5D66-9861-4657-A779-500498C71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AA39-B86E-4591-8027-3DEE3B385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EFFE-5721-4E3B-9966-B1A05FCC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1FC5-2436-4370-8DEB-08F77AC9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2DD2-D603-4323-B742-B852634C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23DD-C01B-458F-B7FA-D6FF293B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9FBA-5424-4ECA-AA2E-993EF722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3B71-7D42-4635-8E8D-785E75B0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EFCA-D7F6-46A6-A2F2-92C418D9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E134-A22A-4580-A210-59404CB3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3933-ED8F-4F0F-B32D-3967431D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CA76-E410-4E6B-8599-DCC03E22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BCE5-527B-4AD6-8A81-6397B413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F229-CD8F-4E10-9659-94D8239A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ED18-560C-42E4-88BB-5CF499343D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AF70-8A02-45BA-A302-E228A374E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.4 Getting Started on a Proje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http://teachingopensource.org/images/thumb/d/d1/Posse-logo.png/350px-Posse-logo.png"/>
          <p:cNvPicPr/>
          <p:nvPr/>
        </p:nvPicPr>
        <p:blipFill>
          <a:blip r:embed="rId1"/>
          <a:stretch/>
        </p:blipFill>
        <p:spPr>
          <a:xfrm>
            <a:off x="5562720" y="5410080"/>
            <a:ext cx="3333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o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start to organize the Stage 3 groups and identify how you might start to work with a selected HFOSS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0DA8-6C58-405D-816C-719A1C794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Your choice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wnload and install an HFOSS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a small contribution that you could mak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k about how you would create student deliver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your imaginatio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EDA6-5DB5-4402-AF00-0E4F90FC3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cord what you find and what you decide to pursue as first ste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herp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4121-C388-4811-823D-FF479F176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5:20:32Z</dcterms:created>
  <dc:creator>user</dc:creator>
  <dc:description/>
  <dc:language>en-US</dc:language>
  <cp:lastModifiedBy>Greg Hislop</cp:lastModifiedBy>
  <dcterms:modified xsi:type="dcterms:W3CDTF">2013-06-02T03:36:12Z</dcterms:modified>
  <cp:revision>907</cp:revision>
  <dc:subject/>
  <dc:title>Slide 1</dc:title>
</cp:coreProperties>
</file>