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187F-7331-4445-8C45-FBFF26D2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3BB-C54C-49CC-BFF1-EC5BBE53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839-5F7A-4166-8B24-6686A6D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48B-DE17-4E55-AFBD-DD8FA56C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C54-2FB9-4AD5-B82A-DEE36665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86D-80B7-48F7-9702-9D9CA33F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D9C-EC66-4B0B-BCDD-3AA2B567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FFF-FDCB-41FC-9D87-F0749BA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AD7-0695-4921-8E99-96E3E22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B60-A812-4788-BCDE-0D7417BA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CF2-CC6A-4E04-BB72-4AFFCD83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21C-43AD-43B0-938A-16640BA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E37-BFB8-4944-B4FD-5C29610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025-4A65-4968-B44A-4314E7B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9406-8CD7-4FA9-AA35-1E2DABBB0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2F8-3B67-4375-8170-A9E139DCC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5 Stage 3 – Firs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work with other POSSE members to developing a plan for incorporating HFOSS into your curriculum next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E79-EACD-4568-8FE0-B4EC69CC9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exercise is posted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foss2serve.org/index.php/Stage_2_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t your group’s answers to the foss2serve wi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E99-4880-4243-957B-60B5483D2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uring this exercise you will work in small groups based upon your selected HFOSS projec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 the other members of your Stage 3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the group’s goals and how you will commun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 timeline for your group’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F6EF-1788-4A03-9B60-F3CA38096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Lori</cp:lastModifiedBy>
  <dcterms:modified xsi:type="dcterms:W3CDTF">2013-06-01T20:48:00Z</dcterms:modified>
  <cp:revision>906</cp:revision>
  <dc:subject/>
  <dc:title>Slide 1</dc:title>
</cp:coreProperties>
</file>