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BA82-EBFA-4541-9F24-3186012DE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5BD6-0633-4C14-9B6B-898341082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6FC5-D863-4D7A-A105-800E4FDB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83D9-5FE6-4CF8-B3A2-0874F937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39C6-4389-4C01-AD6C-2601EBF6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FB10-6C45-4EB6-99FF-7BCC2CC2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F7B6-2606-4505-91E0-0508F7C7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6518-726A-4756-A0F6-101E2ED9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28FC-816E-4C5F-AEF6-934CEE63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14E3-BB53-4EA7-B85C-007F34A6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DB2-1800-4A4E-830A-C5955429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7C58-561B-411A-B4E7-D50F6D98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6989-B4CE-4173-BF72-1399B096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CAE8-A1F2-49D2-983D-85A3D943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9C3B-210C-4005-B623-B48320C430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8931-C4E4-4829-8D28-142BBB291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6 Planning a First HFOSS A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http://teachingopensource.org/images/thumb/d/d1/Posse-logo.png/350px-Posse-logo.png"/>
          <p:cNvPicPr/>
          <p:nvPr/>
        </p:nvPicPr>
        <p:blipFill>
          <a:blip r:embed="rId1"/>
          <a:stretch/>
        </p:blipFill>
        <p:spPr>
          <a:xfrm>
            <a:off x="5562720" y="5410080"/>
            <a:ext cx="3333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help you think about what you can realistically accomplish in the upcoming academic year and what obstacles you foresee that might hinder your progr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build a strategy for Stage 3 involvement that will support your goals and allow you to implement your ac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1F94-4D29-4139-BAE3-1CE80E330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exercise is posted a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foss2serve.org/index.php/Stage_2_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st your answers to your foss2serve wiki p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8691-9A4A-414E-99F8-99D4B915B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uring this exercise you will work in small groups 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 a plan to incorporate HFOSS at your instit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 list of questions and/or concerns about how you will accomplish your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a sense of what type of support you would like to have during Stag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491C-A810-41E7-A444-9BA334C90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5:20:32Z</dcterms:created>
  <dc:creator>user</dc:creator>
  <dc:description/>
  <dc:language>en-US</dc:language>
  <cp:lastModifiedBy>Darci Burdge</cp:lastModifiedBy>
  <dcterms:modified xsi:type="dcterms:W3CDTF">2013-06-01T17:16:24Z</dcterms:modified>
  <cp:revision>904</cp:revision>
  <dc:subject/>
  <dc:title>Slide 1</dc:title>
</cp:coreProperties>
</file>