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9A0D-84A0-40CA-A312-B1AEC14BB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E2C9-2B26-4590-9DEB-4CF1BDC537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B4B-98DC-4AEA-A9E9-398A44F0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B67-1645-43C7-87C3-994F573F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288-DD3D-40F3-8756-7EF4CBD2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2DE-5E9C-433C-9F06-34D83211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215-38FB-4B57-B03B-F3B4E38B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F3E-1E41-43C5-960B-B2B22711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948-968E-4FF9-AC28-595D18B9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AE3-1A29-4012-BE2B-2786455B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D93-C085-4766-A9AB-B0E67CE2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E2B-0B5E-46DB-85B9-80B016F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D88-BE41-46D5-830F-0FE8144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883-7BDB-45AC-97B8-56450F63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142B-4DF8-486A-9393-DB114A480F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FADD-5CB2-4431-8794-63086FABB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3 Stage 3 – Firs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http://teachingopensource.org/images/thumb/d/d1/Posse-logo.png/350px-Posse-logo.png"/>
          <p:cNvPicPr/>
          <p:nvPr/>
        </p:nvPicPr>
        <p:blipFill>
          <a:blip r:embed="rId1"/>
          <a:stretch/>
        </p:blipFill>
        <p:spPr>
          <a:xfrm>
            <a:off x="5562720" y="5410080"/>
            <a:ext cx="3333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work with other POSSE members interested in the same HFOSS project in the development of a plan for the upcoming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939C-37FA-4B35-AAF3-F67EB773A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thin your group discuss the following and post responses on your group’s foss2serve wiki pag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member of the group, include contact information and one or two goals for the 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ting time and sche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tasks for the group (ie. downloading, installing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line for the list of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33CC-DF6A-4DE6-8E46-58D5117C3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Heidi Ellis</cp:lastModifiedBy>
  <dcterms:modified xsi:type="dcterms:W3CDTF">2014-09-19T17:15:48Z</dcterms:modified>
  <cp:revision>911</cp:revision>
  <dc:subject/>
  <dc:title>Slide 1</dc:title>
</cp:coreProperties>
</file>