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6928-3A03-41E1-9776-A396A291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09BD-EAC4-45BB-8CA6-FA0E225BCE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8F6-B248-4427-948A-A3CA504B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496-DC20-4CC5-993A-AA32BF9D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B9C-C847-430D-8A18-3A1A735F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A38-3AAE-4819-974B-BE9B2EF7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8C7-326A-402E-9097-E90892F5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C2D-9CE5-4E29-91F5-EDD81FB5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C33-B888-4DC4-AAE2-94469C7E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FCC-F89B-480B-947F-D056E6C4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4E1-7F9A-486B-A389-05940918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5EF-939C-4F71-8EE7-8B307DE4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26D-453A-44F0-BDE4-619F633E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CDE-7425-466F-8E28-D6F23AA2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74B7-2D72-4767-BFED-38FFEF99E3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FD94-69CE-4595-9DC6-1EF80C2D5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4 Go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teachingopensource.org/images/thumb/d/d1/Posse-logo.png/350px-Posse-logo.png"/>
          <p:cNvPicPr/>
          <p:nvPr/>
        </p:nvPicPr>
        <p:blipFill>
          <a:blip r:embed="rId1"/>
          <a:stretch/>
        </p:blipFill>
        <p:spPr>
          <a:xfrm>
            <a:off x="5562720" y="5410080"/>
            <a:ext cx="333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ion for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discuss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sing remark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8EC0-C460-4A2D-AC8E-3C8F318F0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Heidi Ellis</cp:lastModifiedBy>
  <dcterms:modified xsi:type="dcterms:W3CDTF">2014-11-13T02:53:35Z</dcterms:modified>
  <cp:revision>908</cp:revision>
  <dc:subject/>
  <dc:title>Slide 1</dc:title>
</cp:coreProperties>
</file>